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B71A-26D4-4296-AB48-637293278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're not claiming credit for the whole module, we're just its N European representative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, person, and other info in nd_experimentprop and nd_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if required: nd_geo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-g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our motivation at VectorBase - if we do it properly,  it should be possible to do association studies on accumulated community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 = tom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DR = apples, peach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just stocks in the usual sense of the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defined b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d the NOT NULL constraint on organism so that mixed or unknown species collections (e.g. soil samples) can be track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quickly now because the examples in a minute will make things clea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've currently got a nd_ prefix for all tables in the model but this is still open to deb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.type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urrently envisage 4 types but of cour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eld 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enotype ass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otype ass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B5C-775E-4732-9D16-8B0AD966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13A1-F9E2-4833-9F48-2DB0BF5A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483-7872-4471-81D6-2D1E6C43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0C6-2BCE-44A1-9D78-BE9F5C50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C44-E777-4092-8146-B4F9841A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777-177E-4B25-91C3-8AF3A01B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30C-4EE3-4428-9A72-52D32F0A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904-35ED-4AB3-8560-47595DFA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54DD-68DB-40E3-8FDC-2D95A1F5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565-95F8-4FCA-9639-552AE245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F8E-C5A2-43A2-8359-F72000EB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CBD-FF9C-4816-A315-6D3E3E88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A666-2AF2-45DF-9CA5-9AEA3131F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7160" y="1727280"/>
            <a:ext cx="8390160" cy="187632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GMOD Chado Natural Diversity Mod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2560" y="4165200"/>
            <a:ext cx="5243400" cy="227340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MacCal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h Redm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ial College Lon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vectorbas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157720" y="4179960"/>
            <a:ext cx="2940120" cy="20714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se case: cross experi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246560" y="3657600"/>
            <a:ext cx="2295360" cy="657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>
            <a:off x="7351560" y="6300720"/>
            <a:ext cx="1706760" cy="6588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2825640" y="4417920"/>
            <a:ext cx="2268720" cy="19573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6"/>
          <a:stretch/>
        </p:blipFill>
        <p:spPr>
          <a:xfrm>
            <a:off x="1541520" y="4954680"/>
            <a:ext cx="2516040" cy="8492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1030320" y="4417920"/>
            <a:ext cx="3808440" cy="20718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8"/>
          <a:stretch/>
        </p:blipFill>
        <p:spPr>
          <a:xfrm>
            <a:off x="1279440" y="4829040"/>
            <a:ext cx="2516400" cy="8510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9"/>
          <a:stretch/>
        </p:blipFill>
        <p:spPr>
          <a:xfrm>
            <a:off x="2452680" y="6313320"/>
            <a:ext cx="1706400" cy="657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0"/>
          <a:stretch/>
        </p:blipFill>
        <p:spPr>
          <a:xfrm>
            <a:off x="5792760" y="5140440"/>
            <a:ext cx="2368440" cy="6588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1"/>
          <a:stretch/>
        </p:blipFill>
        <p:spPr>
          <a:xfrm>
            <a:off x="507960" y="6313320"/>
            <a:ext cx="170676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352680" y="4368960"/>
            <a:ext cx="1131840" cy="2584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se case: field collec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4470480" y="3149640"/>
            <a:ext cx="417600" cy="10526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4978440" y="4675320"/>
            <a:ext cx="2627280" cy="19335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5"/>
          <a:stretch/>
        </p:blipFill>
        <p:spPr>
          <a:xfrm>
            <a:off x="4165560" y="3962520"/>
            <a:ext cx="2625840" cy="9540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6"/>
          <a:stretch/>
        </p:blipFill>
        <p:spPr>
          <a:xfrm>
            <a:off x="7297560" y="6626160"/>
            <a:ext cx="2627640" cy="6876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7"/>
          <a:stretch/>
        </p:blipFill>
        <p:spPr>
          <a:xfrm>
            <a:off x="5757840" y="5283360"/>
            <a:ext cx="2625840" cy="8874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8"/>
          <a:stretch/>
        </p:blipFill>
        <p:spPr>
          <a:xfrm>
            <a:off x="2781360" y="2124000"/>
            <a:ext cx="2406600" cy="10224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9"/>
          <a:stretch/>
        </p:blipFill>
        <p:spPr>
          <a:xfrm>
            <a:off x="914400" y="3962520"/>
            <a:ext cx="23954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1486080" y="2387520"/>
            <a:ext cx="333360" cy="13492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se case: phenotype ass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3319560" y="3559320"/>
            <a:ext cx="1755720" cy="6379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5126040" y="1725480"/>
            <a:ext cx="434880" cy="2773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4216320" y="3746520"/>
            <a:ext cx="2540160" cy="8589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6"/>
          <a:stretch/>
        </p:blipFill>
        <p:spPr>
          <a:xfrm>
            <a:off x="5400720" y="4743360"/>
            <a:ext cx="2989080" cy="20638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7"/>
          <a:stretch/>
        </p:blipFill>
        <p:spPr>
          <a:xfrm>
            <a:off x="7345440" y="6602400"/>
            <a:ext cx="2539800" cy="6652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8"/>
          <a:stretch/>
        </p:blipFill>
        <p:spPr>
          <a:xfrm>
            <a:off x="5775480" y="5243400"/>
            <a:ext cx="2538360" cy="857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9"/>
          <a:stretch/>
        </p:blipFill>
        <p:spPr>
          <a:xfrm>
            <a:off x="4491000" y="1015920"/>
            <a:ext cx="2613240" cy="6634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0"/>
          <a:stretch/>
        </p:blipFill>
        <p:spPr>
          <a:xfrm>
            <a:off x="326880" y="3422520"/>
            <a:ext cx="3576960" cy="6638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1"/>
          <a:stretch/>
        </p:blipFill>
        <p:spPr>
          <a:xfrm>
            <a:off x="203040" y="1514520"/>
            <a:ext cx="26114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V term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hema is very flexi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d_experiment.type and nd_experiment_stock.type are ke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ral ways to do the same th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ing group is hoping to agree on core CV terms to aid API develop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 simplified API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914400" y="1625760"/>
            <a:ext cx="75074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age phenotypic and genotypic data for both field collected and captive bred organis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re collection site information for growing "next gen"-based variation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verage existing/future Chado modules, GMOD tools and know-ho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velopmental histo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73200" y="725400"/>
            <a:ext cx="8813880" cy="5060880"/>
            <a:chOff x="673200" y="725400"/>
            <a:chExt cx="8813880" cy="5060880"/>
          </a:xfrm>
        </p:grpSpPr>
        <p:sp>
          <p:nvSpPr>
            <p:cNvPr id="54" name=""/>
            <p:cNvSpPr/>
            <p:nvPr/>
          </p:nvSpPr>
          <p:spPr>
            <a:xfrm>
              <a:off x="673200" y="725400"/>
              <a:ext cx="1514520" cy="21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87720" y="725400"/>
              <a:ext cx="7299360" cy="21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arly versio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liconiusDB @ NESC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National Evolutionary Synthesis Cent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nescent.or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pired b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DPDM (The Genomic Diversity and Phenotype Data Mod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www.maizegenetics.net/gdpdm/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3200" y="2892600"/>
              <a:ext cx="151452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9-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87720" y="2892600"/>
              <a:ext cx="729936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incarnation spearheaded by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ok Jung @ Washington State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DR (Genome Database for Rosacea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www.rosaceae.org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OD working group forme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gmod.org/wiki/Chado_Natural_Diversity_Module_Working_Group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200" y="4849920"/>
              <a:ext cx="15145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gust 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7720" y="4849920"/>
              <a:ext cx="7299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ural Diversity module merged into Chado svn 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87720" y="72540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87720" y="289260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87720" y="484992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87720" y="578628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3200" y="4849920"/>
              <a:ext cx="0" cy="936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7720" y="4849920"/>
              <a:ext cx="0" cy="936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87080" y="4849920"/>
              <a:ext cx="0" cy="936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3200" y="7254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3200" y="7254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3200" y="72540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320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320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3200" y="725400"/>
              <a:ext cx="0" cy="2167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8772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8772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87720" y="725400"/>
              <a:ext cx="0" cy="2167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3200" y="28926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3200" y="28926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3200" y="289260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87720" y="7254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87720" y="7254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48708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48708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487080" y="725400"/>
              <a:ext cx="0" cy="2167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87720" y="28926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87720" y="28926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320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320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3200" y="2892600"/>
              <a:ext cx="0" cy="1957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8772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8772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87720" y="2892600"/>
              <a:ext cx="0" cy="1957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3200" y="484992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3200" y="484992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3200" y="484992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48708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48708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487080" y="2892600"/>
              <a:ext cx="0" cy="1957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87720" y="484992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87720" y="484992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320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320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8772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8772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3200" y="578628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3200" y="578628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3200" y="578628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48708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48708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87720" y="578628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87720" y="578628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21640" y="1625760"/>
            <a:ext cx="1316160" cy="1322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416720" y="3962520"/>
            <a:ext cx="164160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urrent develop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45960" y="507960"/>
            <a:ext cx="9466200" cy="6329520"/>
            <a:chOff x="345960" y="507960"/>
            <a:chExt cx="9466200" cy="6329520"/>
          </a:xfrm>
        </p:grpSpPr>
        <p:sp>
          <p:nvSpPr>
            <p:cNvPr id="115" name=""/>
            <p:cNvSpPr/>
            <p:nvPr/>
          </p:nvSpPr>
          <p:spPr>
            <a:xfrm>
              <a:off x="345960" y="507960"/>
              <a:ext cx="26686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14640" y="507960"/>
              <a:ext cx="6797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ffili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5960" y="946080"/>
              <a:ext cx="26686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ve Clements (organiz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14640" y="946080"/>
              <a:ext cx="67975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SCent, G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5960" y="1446120"/>
              <a:ext cx="26686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ok J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14640" y="1446120"/>
              <a:ext cx="679752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shington State University, G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5960" y="180036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rrie 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14640" y="180036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shington State University, G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5960" y="216540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ephen Fickl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14640" y="216540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G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5960" y="253044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g Sta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14640" y="253044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G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5960" y="2895480"/>
              <a:ext cx="2668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cott C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14640" y="2895480"/>
              <a:ext cx="6797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ICR / G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5960" y="326088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vieve DeCle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14640" y="326088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nell / Gram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5960" y="3625920"/>
              <a:ext cx="26686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 MacCall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14640" y="3625920"/>
              <a:ext cx="67975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perial, Lond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5960" y="397980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h Redm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4640" y="397980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perial, Lond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5960" y="4344840"/>
              <a:ext cx="2668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ama Men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14640" y="4344840"/>
              <a:ext cx="6797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l Genomics Network / S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960" y="4710240"/>
              <a:ext cx="26686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ren Frie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14640" y="4710240"/>
              <a:ext cx="6797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dicago ecological genomics,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 of Southern Califor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5960" y="5148360"/>
              <a:ext cx="266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uri Bend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14640" y="5148360"/>
              <a:ext cx="67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dicago ecological genomics,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 of Southern Califor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5960" y="5668920"/>
              <a:ext cx="26686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ntelis Topal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14640" y="5668920"/>
              <a:ext cx="679752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BB, Cr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5960" y="6043680"/>
              <a:ext cx="26686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manuel Dialy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14640" y="6043680"/>
              <a:ext cx="67975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BB, Cr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5960" y="6440400"/>
              <a:ext cx="2668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b Bu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14640" y="6440400"/>
              <a:ext cx="6797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l Genomics Network / S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14640" y="50796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14640" y="9460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14640" y="144612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14640" y="180036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14640" y="216540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14640" y="253044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14640" y="28954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14640" y="32608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14640" y="362592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14640" y="397980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14640" y="434484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14640" y="471024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14640" y="514836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14640" y="566892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14640" y="60436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14640" y="644040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14640" y="68374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5960" y="6440400"/>
              <a:ext cx="0" cy="397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14640" y="6440400"/>
              <a:ext cx="0" cy="397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12160" y="6440400"/>
              <a:ext cx="0" cy="397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5960" y="5079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5960" y="5079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960" y="50796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59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59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5960" y="50796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1464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1464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14640" y="50796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5960" y="9460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5960" y="9460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5960" y="9460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14640" y="5079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14640" y="5079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8121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8121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812160" y="50796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14640" y="9460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14640" y="9460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59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59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5960" y="946080"/>
              <a:ext cx="0" cy="500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1464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1464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14640" y="946080"/>
              <a:ext cx="0" cy="500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5960" y="14461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5960" y="14461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5960" y="144612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8121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8121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812160" y="946080"/>
              <a:ext cx="0" cy="500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14640" y="14461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14640" y="14461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59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59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5960" y="1446120"/>
              <a:ext cx="0" cy="354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1464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1464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14640" y="1446120"/>
              <a:ext cx="0" cy="354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5960" y="1800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5960" y="1800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5960" y="180036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8121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8121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812160" y="1446120"/>
              <a:ext cx="0" cy="354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14640" y="1800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14640" y="1800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59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59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5960" y="180036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1464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1464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4640" y="180036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5960" y="2165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5960" y="2165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5960" y="216540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8121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8121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812160" y="180036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4640" y="2165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14640" y="2165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59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59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5960" y="21654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1464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1464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14640" y="21654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5960" y="25304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5960" y="25304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5960" y="253044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8121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8121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812160" y="21654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14640" y="25304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14640" y="25304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59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59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5960" y="253044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1464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1464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14640" y="253044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5960" y="2895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5960" y="2895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5960" y="28954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8121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8121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812160" y="253044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14640" y="2895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14640" y="2895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59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59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5960" y="289548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1464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464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14640" y="289548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5960" y="32608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5960" y="32608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5960" y="32608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8121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8121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2160" y="289548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14640" y="32608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14640" y="32608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59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59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5960" y="326088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1464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1464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14640" y="326088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5960" y="3625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960" y="3625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5960" y="362592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8121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121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812160" y="326088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14640" y="3625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14640" y="3625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59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59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5960" y="362592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1464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1464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14640" y="362592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5960" y="39798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5960" y="39798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5960" y="397980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8121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8121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812160" y="362592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14640" y="39798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14640" y="39798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9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59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5960" y="39798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1464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1464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14640" y="39798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5960" y="43448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5960" y="43448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5960" y="434484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8121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8121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812160" y="39798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14640" y="43448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14640" y="43448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59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59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5960" y="434484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1464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464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14640" y="434484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5960" y="47102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5960" y="47102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5960" y="471024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8121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8121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812160" y="434484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14640" y="47102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14640" y="47102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59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59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5960" y="471024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1464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1464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14640" y="471024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5960" y="5148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5960" y="5148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5960" y="514836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8121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8121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812160" y="471024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14640" y="5148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14640" y="5148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59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59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5960" y="51483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1464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1464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14640" y="51483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5960" y="5668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5960" y="5668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5960" y="566892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121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8121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12160" y="51483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14640" y="5668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14640" y="5668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59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59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5960" y="566892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1464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1464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14640" y="566892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960" y="60436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5960" y="60436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5960" y="60436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8121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8121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812160" y="566892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4640" y="60436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14640" y="60436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59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59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5960" y="6043680"/>
              <a:ext cx="0" cy="396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1464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1464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14640" y="6043680"/>
              <a:ext cx="0" cy="396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5960" y="6440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5960" y="6440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5960" y="644040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8121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8121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812160" y="6043680"/>
              <a:ext cx="0" cy="396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14640" y="6440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14640" y="6440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59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59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1464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1464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5960" y="6837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5960" y="6837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5960" y="68374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8121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8121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14640" y="6837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14640" y="6837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e Schem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ock (pre-existing module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187280" y="1812960"/>
            <a:ext cx="7785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0840" y="306360"/>
            <a:ext cx="352764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07960" y="1320840"/>
            <a:ext cx="91440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799776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5800" y="1828440"/>
            <a:ext cx="432900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loc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0840" y="306000"/>
            <a:ext cx="35276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notype &amp;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962520" y="406440"/>
            <a:ext cx="590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